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EAF-0F31-4201-B15C-864FD8CC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7EE-AD55-4B51-8379-68AD491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CC3-C913-4338-86F3-6831EC09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E12-4654-46B5-B6CD-E270580C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E45-E8D2-48C9-8C2B-895389E7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306-A2BC-4313-AC95-8E52AB1C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175-4169-4D19-B053-80E99EC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A3C-BB3B-4049-BDE6-844D32C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F1A-E994-4CD9-ABB4-33D4382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047-4944-475F-A2FC-A0772DE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47C-BA39-459D-969F-57CBE35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F9C-EE5C-4420-9D53-F87B763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6CC-27B8-4228-8830-95062C5E5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B Simultaneous linear in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to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ystem of linear inequation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atisfies more than one inequation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at the same time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ical solu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 the solution for the first linear inequati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 the solution for the second linear inequati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to both inequations is the intersection of the solution regions from Steps 1 and 2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region is also called the feasible region. It will be a polyg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11B, Q. 1, 5, 8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B, Q. 3, 6, 10, 11, 1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1:57:59Z</dcterms:created>
  <dc:creator>08843474</dc:creator>
  <dc:description/>
  <dc:language>en-US</dc:language>
  <cp:lastModifiedBy>08843474</cp:lastModifiedBy>
  <dcterms:modified xsi:type="dcterms:W3CDTF">2011-06-16T02:27:15Z</dcterms:modified>
  <cp:revision>2</cp:revision>
  <dc:subject/>
  <dc:title>11B Simultaneous linear inequations</dc:title>
</cp:coreProperties>
</file>